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C3F-68F1-4607-877E-2E5F7886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DF0B-62D2-4F74-9CE3-0537F2F2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167-DC89-4B7F-949B-AF914958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8D2-D520-47E9-8779-8F7EA7EB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325-0955-4BA3-B990-FA7D7B12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1C4B-28FD-474F-91AC-76C03A3C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304-7967-461D-9590-6744DED1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618-9D65-4556-8371-3FE01414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753C-FC02-402B-BC9C-75C73B60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726-1E27-41FD-8939-7B042CB5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DDCA-B397-4EF5-AFE6-91DE8C23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9ED-A66A-4170-AFFE-DCAF2A51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4B8F-2C65-42A2-825C-6131853A3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21920" y="278640"/>
            <a:ext cx="6137280" cy="8179920"/>
            <a:chOff x="421920" y="278640"/>
            <a:chExt cx="6137280" cy="8179920"/>
          </a:xfrm>
        </p:grpSpPr>
        <p:grpSp>
          <p:nvGrpSpPr>
            <p:cNvPr id="42" name=""/>
            <p:cNvGrpSpPr/>
            <p:nvPr/>
          </p:nvGrpSpPr>
          <p:grpSpPr>
            <a:xfrm>
              <a:off x="421920" y="278640"/>
              <a:ext cx="6137280" cy="8179920"/>
              <a:chOff x="421920" y="278640"/>
              <a:chExt cx="6137280" cy="8179920"/>
            </a:xfrm>
          </p:grpSpPr>
          <p:sp>
            <p:nvSpPr>
              <p:cNvPr id="43" name=""/>
              <p:cNvSpPr/>
              <p:nvPr/>
            </p:nvSpPr>
            <p:spPr>
              <a:xfrm>
                <a:off x="422280" y="278640"/>
                <a:ext cx="6123960" cy="8179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0520" y="7639560"/>
                <a:ext cx="1638000" cy="81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5400000">
                <a:off x="12240" y="1505160"/>
                <a:ext cx="2453400" cy="163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6200000">
                <a:off x="4233600" y="4640400"/>
                <a:ext cx="2454840" cy="163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22280" y="4777200"/>
                <a:ext cx="2454120" cy="163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103640" y="1300680"/>
                <a:ext cx="2455560" cy="163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239480" y="4777200"/>
                <a:ext cx="1022760" cy="203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717440" y="1300680"/>
                <a:ext cx="1022040" cy="2030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6760" y="3345120"/>
                <a:ext cx="1021680" cy="2044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42920" y="6480720"/>
                <a:ext cx="1021680" cy="2037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5000" y="7639560"/>
                <a:ext cx="1021680" cy="2048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5400000">
                <a:off x="2058480" y="8048880"/>
                <a:ext cx="612000" cy="2037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5400000">
                <a:off x="3695040" y="2117880"/>
                <a:ext cx="1021320" cy="204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5400000">
                <a:off x="1444320" y="1504440"/>
                <a:ext cx="1022040" cy="2044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5400000">
                <a:off x="4233600" y="4844160"/>
                <a:ext cx="1022760" cy="2044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5400000">
                <a:off x="2262600" y="5594760"/>
                <a:ext cx="1022040" cy="2044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917720" y="2074680"/>
            <a:ext cx="3026880" cy="3359880"/>
            <a:chOff x="1917720" y="2074680"/>
            <a:chExt cx="3026880" cy="3359880"/>
          </a:xfrm>
        </p:grpSpPr>
        <p:sp>
          <p:nvSpPr>
            <p:cNvPr id="60" name=""/>
            <p:cNvSpPr/>
            <p:nvPr/>
          </p:nvSpPr>
          <p:spPr>
            <a:xfrm rot="10800000">
              <a:off x="1917720" y="2074680"/>
              <a:ext cx="3026880" cy="335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993600" y="3419640"/>
              <a:ext cx="2100240" cy="252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3682800" y="5016600"/>
              <a:ext cx="1261800" cy="417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07400" y="513360"/>
            <a:ext cx="59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400" spc="-1" strike="noStrike">
                <a:solidFill>
                  <a:srgbClr val="000000"/>
                </a:solidFill>
                <a:latin typeface="Comic Sans MS"/>
              </a:rPr>
              <a:t>Gwarchodwr (gua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692280" y="3708000"/>
            <a:ext cx="5309640" cy="4808520"/>
            <a:chOff x="692280" y="3708000"/>
            <a:chExt cx="5309640" cy="4808520"/>
          </a:xfrm>
        </p:grpSpPr>
        <p:sp>
          <p:nvSpPr>
            <p:cNvPr id="65" name=""/>
            <p:cNvSpPr/>
            <p:nvPr/>
          </p:nvSpPr>
          <p:spPr>
            <a:xfrm rot="217800">
              <a:off x="2592000" y="5850720"/>
              <a:ext cx="1501560" cy="2620800"/>
            </a:xfrm>
            <a:prstGeom prst="blockArc">
              <a:avLst>
                <a:gd name="adj1" fmla="val 11815748"/>
                <a:gd name="adj2" fmla="val 20584252"/>
                <a:gd name="adj3" fmla="val 230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692280" y="3708000"/>
              <a:ext cx="2630160" cy="32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3371400" y="4366080"/>
              <a:ext cx="2630520" cy="26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00080" y="5716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400" spc="-1" strike="noStrike">
                <a:solidFill>
                  <a:srgbClr val="000000"/>
                </a:solidFill>
                <a:latin typeface="Comic Sans MS"/>
              </a:rPr>
              <a:t>PIR:(Infra Red Sensors       - synhwyrydd isgo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376280" y="3274920"/>
            <a:ext cx="3833640" cy="3409560"/>
            <a:chOff x="1376280" y="3274920"/>
            <a:chExt cx="3833640" cy="3409560"/>
          </a:xfrm>
        </p:grpSpPr>
        <p:sp>
          <p:nvSpPr>
            <p:cNvPr id="70" name=""/>
            <p:cNvSpPr/>
            <p:nvPr/>
          </p:nvSpPr>
          <p:spPr>
            <a:xfrm>
              <a:off x="1376280" y="4709880"/>
              <a:ext cx="638280" cy="425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038320" y="3274920"/>
              <a:ext cx="3149640" cy="147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990800" y="5096520"/>
              <a:ext cx="3219120" cy="158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806760" y="754560"/>
            <a:ext cx="47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5400" spc="-1" strike="noStrike">
                <a:solidFill>
                  <a:srgbClr val="000000"/>
                </a:solidFill>
                <a:latin typeface="Comic Sans MS"/>
              </a:rPr>
              <a:t>Camera CCTV</a:t>
            </a:r>
            <a:r>
              <a:rPr b="0" lang="cy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2:14:03Z</dcterms:created>
  <dc:creator>Betsan Jones</dc:creator>
  <dc:description/>
  <dc:language>en-US</dc:language>
  <cp:lastModifiedBy>Betsan Jones</cp:lastModifiedBy>
  <dcterms:modified xsi:type="dcterms:W3CDTF">2009-03-10T21:01:18Z</dcterms:modified>
  <cp:revision>2</cp:revision>
  <dc:subject/>
  <dc:title>Slide 1</dc:title>
</cp:coreProperties>
</file>